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2A6F-EB08-4FEF-A3A2-4AAE16540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11DC-6445-48E1-83B5-97DD88FF1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FB69-338C-46AC-BECC-3C145BE90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080B-BFA4-45C4-AA44-D412C7D96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849F4-9F4B-41ED-83B1-3D58AAC8B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777A0-0A7B-442B-A4CB-C36A27ADC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B305E-8C3B-47AE-9B59-04256FFA0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19F5F-B035-4680-9C3C-788CF90F0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75D68-98B1-4F33-904E-FF637F6E5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8D587-CEA3-4118-91FF-55D3E6425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D52F4-EE2E-4954-B865-6FB8F6D3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B592-3195-4890-B84C-757629403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103A9-5CDB-4637-904C-2AA6C577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F2BB5-5629-4C56-8E8C-C60BFBE7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0C344-45F6-4B14-90CA-85A09E5F4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2BF02-6D22-4257-A040-4B4CCAC0F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173C8-0263-469A-9F31-D13493C12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EF45-2912-4071-99F8-E9554470C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19B5-143F-4653-8C4A-20228363E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98B8-3994-4BEA-97C3-A56F5D46B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6216-6078-4F81-8E13-2F891F7A6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47EF-8700-4818-AE7E-21428A43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B3F2-F043-4E3C-A7F5-61946E72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9E7B-988B-48D0-BE5C-82B95186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76BB7-FC7F-4F56-B23F-09CCF473B4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BCE1A-512E-453F-B2D4-18E9434ADB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10920" y="404280"/>
            <a:ext cx="6046920" cy="20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Краснокамс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7391520" cy="4300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403280" y="1773360"/>
            <a:ext cx="7416720" cy="42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3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3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зеленение город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Это может сделать каждый! Сделаем наш город чистым, красивым и уютным!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195640" y="3068640"/>
            <a:ext cx="471960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Краснокамс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Только 8 предприятий города готовы соблюдать требования экологического законодательства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Из 68 предприятий города только 8 заключили договора на функционирование санитарно-защитной зоны (СЗЗ)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Краснокамс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47280" y="1700280"/>
            <a:ext cx="4751640" cy="46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В городе три главных источника выброса ядовитых веществ в атмосферу: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7920" indent="3780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Выбросы КЦБК "Кама";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7920" indent="3780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Выхлопные газы транспорта;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7920" indent="3780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Полигон бытовых отходов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69" name="" descr="КЦБК.jpg, 21179 bytes"/>
          <p:cNvPicPr/>
          <p:nvPr/>
        </p:nvPicPr>
        <p:blipFill>
          <a:blip r:embed="rId1"/>
          <a:stretch/>
        </p:blipFill>
        <p:spPr>
          <a:xfrm>
            <a:off x="6156360" y="1628640"/>
            <a:ext cx="276840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и здоровь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00120" y="1777680"/>
            <a:ext cx="7491600" cy="446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В течение нескольких лет более 400 краснокамских детей были обследованы сотрудниками института экология и выявили рост содержащихся в их организме: свинца, хрома, фенола и бензола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В 2000 году фенол влияющий на систему крови, печени и почек, обнаруживался у 25 % обследованных детей, то в 2003 году - уже у 87 %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и здоровь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При попадании в организм: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00"/>
                </a:solidFill>
                <a:latin typeface="Arial"/>
              </a:rPr>
              <a:t>сернистого ангидрида</a:t>
            </a: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 - развиваются такие заболевания, как бронхиальная астма, нефрит, хронический отит, ДЦП, сахарный диабет, аномалии системы кровообращения;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00"/>
                </a:solidFill>
                <a:latin typeface="Arial"/>
              </a:rPr>
              <a:t>фенола</a:t>
            </a: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 - бронхиальная астма, стенокардия, сахарный диабет, гипертония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и здоровь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Город занимает 18 место по уровню смертности в области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По уровню смертности от новообразований. Краснокамск занимает седьмое место: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53 % - болезни системы кровообращения;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4 % - органы пищеварения,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6 % - органы дыхания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По уровню общей заболеваемости на 21 месте, а детей на 7 месте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редприятия города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652400" y="1279080"/>
            <a:ext cx="7491240" cy="431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КЦБК «Кама",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"ТЭЦ-5",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"Свинокомплекс" - 71 % вредных выбросов в воздух и 83 % всех загрязнений окружающей среды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Краснокамс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100 тысяч тонн так называемых нефтеочистк находится на небольшой глубине под слоем грунта в водоохраной зоне в районе деревни Шилова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76000" y="404280"/>
            <a:ext cx="7488360" cy="158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ля изменения экологической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безопасности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необходимо решить следующие основные задачи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47640" y="2133360"/>
            <a:ext cx="7345440" cy="42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реализовать комплексные меры по улучшению экологической ситуации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проводить медико-экологическую реабилитацию населения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способствовать снижению техногенной нагрузки на окружающую среду от выбросов и сбросов загрязняющих веществ и размещения отходов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11:28:39Z</dcterms:created>
  <dc:creator>01</dc:creator>
  <dc:description/>
  <dc:language>en-US</dc:language>
  <cp:lastModifiedBy>admin</cp:lastModifiedBy>
  <dcterms:modified xsi:type="dcterms:W3CDTF">2007-01-24T02:26:54Z</dcterms:modified>
  <cp:revision>6</cp:revision>
  <dc:subject/>
  <dc:title>Экология Краснокамска</dc:title>
</cp:coreProperties>
</file>